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792913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C1FFA-0F4A-4F78-AECC-52CB893E4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FA70E-35C8-4E32-B425-57834D6A8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CBCE5-958F-4837-AE03-E6BAB4B79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29E55-760E-40CD-9442-395DA66F9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1B1A3-98BE-40D2-949A-2D9B8E1D3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BE10B-1951-4E91-ADE1-2C032D01B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B7730-8B1B-423D-BE8E-561DC34B9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A2B94-73A8-449D-9F29-CFD7CDF79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BFD38-76E7-47D5-83FF-E6E3EBA38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A17E9-12DC-43B7-AF41-959AD8670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A2E30-08A2-45B8-BB49-7BFDC3800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E8644-6FFD-4A38-BF0C-71A942CEE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E50F3-E989-4260-A3EB-214826554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46104-3D22-4AEF-A48F-C9661C9E7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9A318-36FB-42AE-B9EB-7C403CF1E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A63C3-D97D-4E90-A5B4-8DD282869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67FBC-E95E-476E-BCA6-736244BB7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B74A5-E2F2-4B56-A8F6-90D88F5C6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095E5-3B8E-4B21-827A-02A130FAE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C31FD-EB4C-44C0-A45C-66FAD1353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1ADBA-019A-43F2-8052-08571BC21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BCB27-0343-4C50-8853-7C20E5A00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F034A-2346-4F89-A812-8267BD1F5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6B109-7D85-4DA4-8AAF-B2EAAAE19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7c130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cc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87ACC-B311-47A2-B463-4EC5493AAD8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0944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0944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0944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3760" cy="10944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09440" cy="10944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0944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0944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0944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09440" cy="1180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09440" cy="11196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0944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7c130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cc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4F682-4A25-49EF-AC95-3E510189F0E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mailto:mslavkovic@kg.ac.rs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7086600" cy="2590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600" spc="-1" strike="noStrike">
                <a:solidFill>
                  <a:srgbClr val="ff0000"/>
                </a:solidFill>
                <a:latin typeface="Arial"/>
              </a:rPr>
              <a:t>КОМУНИКАЦИЈА СА ПАЦИЈЕНТИМА</a:t>
            </a:r>
            <a:endParaRPr b="1" lang="en-US" sz="36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Доц. др Марко Славкови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6" descr=""/>
          <p:cNvPicPr/>
          <p:nvPr/>
        </p:nvPicPr>
        <p:blipFill>
          <a:blip r:embed="rId1"/>
          <a:stretch/>
        </p:blipFill>
        <p:spPr>
          <a:xfrm>
            <a:off x="5715000" y="4419720"/>
            <a:ext cx="1424160" cy="1638360"/>
          </a:xfrm>
          <a:prstGeom prst="rect">
            <a:avLst/>
          </a:prstGeom>
          <a:ln w="0">
            <a:noFill/>
          </a:ln>
        </p:spPr>
      </p:pic>
      <p:sp>
        <p:nvSpPr>
          <p:cNvPr id="152" name="Rectangle 7"/>
          <p:cNvSpPr/>
          <p:nvPr/>
        </p:nvSpPr>
        <p:spPr>
          <a:xfrm>
            <a:off x="1600200" y="4952880"/>
            <a:ext cx="4321080" cy="15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УНИВЕРЗИТЕТ У КРАГУЈЕВЦУ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ЕКОНОМСКИ ФАКУЛТЕ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Крагујевац, 2019. годи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4" name="Object 8"/>
          <p:cNvGraphicFramePr/>
          <p:nvPr/>
        </p:nvGraphicFramePr>
        <p:xfrm>
          <a:off x="380880" y="4419720"/>
          <a:ext cx="1447920" cy="1773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5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880" y="4419720"/>
                    <a:ext cx="1447920" cy="177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56" name="Picture 7" descr="memo grb copy"/>
          <p:cNvPicPr/>
          <p:nvPr/>
        </p:nvPicPr>
        <p:blipFill>
          <a:blip r:embed="rId4"/>
          <a:stretch/>
        </p:blipFill>
        <p:spPr>
          <a:xfrm>
            <a:off x="762120" y="228600"/>
            <a:ext cx="7696080" cy="141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28600" y="122400"/>
            <a:ext cx="8686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Комуникација </a:t>
            </a:r>
            <a:r>
              <a:rPr b="1" lang="sr-RS" sz="4400" spc="-1" strike="noStrike">
                <a:solidFill>
                  <a:srgbClr val="0000ff"/>
                </a:solidFill>
                <a:latin typeface="Arial"/>
              </a:rPr>
              <a:t>са рођацима који желе да прикрију истину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Испитати разлога прикривања истин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Објаснити породици да треба да прихвати пацијентову потребу за објашњењ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Прво договорити да се разговора са пацијентом да се утврди колико он разуме сопствену ситуациј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Обећати да пацијент неће добити ниједну информацију коју не траж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Објаснити да саопштавање реалне ситуације даје више постора за постизање краткорочних циље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Објаснити да искрен разговор ствара осећај утех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Отворити могућност заједниког сусре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Посебно причати са онима који су за прикривањ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4920" y="122400"/>
            <a:ext cx="761976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0000ff"/>
                </a:solidFill>
                <a:latin typeface="Arial"/>
              </a:rPr>
              <a:t>Препреке</a:t>
            </a: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 доброј комуникацији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Пацијенти понекад не могу да нађу речи којима би изразили своја осећањ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Пацијенти не желе да буду терет и боје се да ће “пући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Пацијенти се стиде да признају да имају проблем са савладавањем сопствене ситуациј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Здравствени радници се боје да ће код пацијената изазвати душевни бо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Здравствени радници сматрају да емоционална подршка није део њихово посла и не знају како да то урад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Емоције пацијената могу лично да погађај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0000ff"/>
                </a:solidFill>
                <a:latin typeface="Arial"/>
              </a:rPr>
              <a:t>Препреке</a:t>
            </a: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 доброј комуникацији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ff"/>
                </a:solidFill>
                <a:latin typeface="Arial"/>
              </a:rPr>
              <a:t>Избегавати понашање које спречава комуникацију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Претерани давање савета и утехе, пре него што се идентификују главни пробле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Занемаривање душевног бо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Фокусирање искључиво на физичке аспект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Промене теме разгово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Успутно развесељавање пацијен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800" spc="-1" strike="noStrike">
                <a:solidFill>
                  <a:srgbClr val="ff7547"/>
                </a:solidFill>
                <a:latin typeface="Arial"/>
              </a:rPr>
              <a:t>Хвала на пажњи</a:t>
            </a:r>
            <a:r>
              <a:rPr b="1" lang="en-US" sz="4800" spc="-1" strike="noStrike">
                <a:solidFill>
                  <a:srgbClr val="ff7547"/>
                </a:solidFill>
                <a:latin typeface="Arial"/>
              </a:rPr>
              <a:t>!</a:t>
            </a:r>
            <a:endParaRPr b="1" lang="en-US" sz="48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Др Марко Славкови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08080"/>
                </a:solidFill>
                <a:uFillTx/>
                <a:latin typeface="Arial"/>
                <a:hlinkClick r:id="rId1"/>
              </a:rPr>
              <a:t>mslavkovic@kg.ac.rs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www.markoslavkovic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Комуникација са </a:t>
            </a:r>
            <a:r>
              <a:rPr b="1" lang="sr-RS" sz="4400" spc="-1" strike="noStrike">
                <a:solidFill>
                  <a:srgbClr val="0000ff"/>
                </a:solidFill>
                <a:latin typeface="Arial"/>
              </a:rPr>
              <a:t>старијим</a:t>
            </a: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 пацијентима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Говор уз осмех има већи ефекат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Гледајте особу у лице, директан контакт очима боље држи пажњ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Елиминишите напетост код себ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Користите краће и јасне речениц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Оставите довољно времена саговорнику да разуме ваш говор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Дискретно проверавајте пажњу саговорник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Поновите информацију ако је потребно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Прилагодите јачину свог говора. Говорити гласно није увек најбоље, осим ако саговорник не чуј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Будите стрпљиви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52280" y="122400"/>
            <a:ext cx="8686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Комуникација са пацијентима </a:t>
            </a:r>
            <a:r>
              <a:rPr b="1" lang="sr-RS" sz="4400" spc="-1" strike="noStrike">
                <a:solidFill>
                  <a:srgbClr val="0000ff"/>
                </a:solidFill>
                <a:latin typeface="Arial"/>
              </a:rPr>
              <a:t>са ургентним психијат. стањ.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Градити однос са пацијентом заснован на емпатији, искрености и прихватањ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Развијати однос у коме се пацијент може љутити, а да притом не реагује агресиј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Примењивати индивидуални приступ пацијент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Предвидети могућност агресивног понашања и превентивно деловати на спречавању тог понашањ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Поштовати болесникову потребу за личним простором (склонити ствари које га плаше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Не оптуживати болесника, да му јача осећај кривиц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Не изазивати болесни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На занемаривати сопствену безбеднос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480" y="122400"/>
            <a:ext cx="746784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Комуникација са</a:t>
            </a:r>
            <a:r>
              <a:rPr b="1" lang="sr-RS" sz="4400" spc="-1" strike="noStrike">
                <a:solidFill>
                  <a:srgbClr val="0000ff"/>
                </a:solidFill>
                <a:latin typeface="Arial"/>
              </a:rPr>
              <a:t> психотичним болесником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У комуникацији је битно стрпљење и поштовањ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Подстицати болесника да опширније одговара на питања, да успостави социјални контакт са други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Кратке једноставне реченице уз употребу социјалних подстицаја (шетња, игре, часописи ...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Није добро директно противречити болесниковим суманутим идејама, већ је боље открити шта се крије иза њи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Откривањем тога ствара се осећај поверењ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Не сме се избегавати комуникација – то болесник може протумачити као поступак против њема и реаговати још агресивниј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122400"/>
            <a:ext cx="746784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Комуникација са</a:t>
            </a:r>
            <a:r>
              <a:rPr b="1" lang="sr-RS" sz="4400" spc="-1" strike="noStrike">
                <a:solidFill>
                  <a:srgbClr val="0000ff"/>
                </a:solidFill>
                <a:latin typeface="Arial"/>
              </a:rPr>
              <a:t> депресивним болесником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Подстицати га на комуникацију са другим болесници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Суздржавати сопствену досаду и љутњ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Опрезно посматрати болесника, вербалан и невербалан гово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Објаснити сврху разгово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Користити изразе подрке и разумевањ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Постављати му питања на које може дати кратке и једноставне одговор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Разговор треба да буде отворен и пун разумевањ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Пажљиво испитати суицидне намере, без страха да ће му испитивање погоршати стањ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09480" y="122400"/>
            <a:ext cx="746784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Комуникација са</a:t>
            </a:r>
            <a:r>
              <a:rPr b="1" lang="sr-RS" sz="4400" spc="-1" strike="noStrike">
                <a:solidFill>
                  <a:srgbClr val="0000ff"/>
                </a:solidFill>
                <a:latin typeface="Arial"/>
              </a:rPr>
              <a:t> агресивним болесником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Здравствени радник мора бити смирен и отворе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Треба проценити стање болесника: узнемиреност или “експлозија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Показати му жељу за разговором и слушањ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Признати му да је љут и узнемире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Упозорити болесника да насилно понашање није прихватљив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Бити на сигурној удаље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Не прекидати болесником испа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Не показивати му слагање са оним са чим се не слажем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Настојати разуверити и опустити болесни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28600" y="122400"/>
            <a:ext cx="861048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Комуникација са </a:t>
            </a:r>
            <a:r>
              <a:rPr b="1" lang="sr-RS" sz="4400" spc="-1" strike="noStrike">
                <a:solidFill>
                  <a:srgbClr val="0000ff"/>
                </a:solidFill>
                <a:latin typeface="Arial"/>
              </a:rPr>
              <a:t>болесником у акутном напитом стању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Остати миран, представити се болеснику и успоставити контакт са очи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Не треба се према болеснику поставити изазивачки, нити тражити од њега да се смир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По потреби, неупадљиво треба звати помоћ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Разговор треба водити у већој просторији, јер мања просторија може развити осећај “затворености у клопку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Треба користити “Да, али ...” конструкцију. На пример: “Да, слажем се са вама, али можда би било добро да ..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122400"/>
            <a:ext cx="861048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Комуникација са </a:t>
            </a:r>
            <a:r>
              <a:rPr b="1" lang="sr-RS" sz="4400" spc="-1" strike="noStrike">
                <a:solidFill>
                  <a:srgbClr val="0000ff"/>
                </a:solidFill>
                <a:latin typeface="Arial"/>
              </a:rPr>
              <a:t>болесником са неповољном прогнозом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000000"/>
                </a:solidFill>
                <a:latin typeface="Arial"/>
              </a:rPr>
              <a:t>60-тих година </a:t>
            </a:r>
            <a:r>
              <a:rPr b="0" lang="sr-RS" sz="3600" spc="-1" strike="noStrike">
                <a:solidFill>
                  <a:srgbClr val="ff0000"/>
                </a:solidFill>
                <a:latin typeface="Arial"/>
              </a:rPr>
              <a:t>Сисели Саундерс</a:t>
            </a:r>
            <a:r>
              <a:rPr b="0" lang="sr-RS" sz="3600" spc="-1" strike="noStrike">
                <a:solidFill>
                  <a:srgbClr val="000000"/>
                </a:solidFill>
                <a:latin typeface="Arial"/>
              </a:rPr>
              <a:t> је утемељила приступ комуникације са пацијентом који се заснива н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99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ff"/>
                </a:solidFill>
                <a:latin typeface="Arial"/>
              </a:rPr>
              <a:t>истини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99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ff"/>
                </a:solidFill>
                <a:latin typeface="Arial"/>
              </a:rPr>
              <a:t>отворености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; 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99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ff"/>
                </a:solidFill>
                <a:latin typeface="Arial"/>
              </a:rPr>
              <a:t>искрености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000000"/>
                </a:solidFill>
                <a:latin typeface="Arial"/>
              </a:rPr>
              <a:t>Алтернатива је приступ “</a:t>
            </a:r>
            <a:r>
              <a:rPr b="0" lang="sr-RS" sz="3600" spc="-1" strike="noStrike">
                <a:solidFill>
                  <a:srgbClr val="ff0000"/>
                </a:solidFill>
                <a:latin typeface="Arial"/>
              </a:rPr>
              <a:t>затворене свести</a:t>
            </a:r>
            <a:r>
              <a:rPr b="0" lang="sr-RS" sz="3600" spc="-1" strike="noStrike">
                <a:solidFill>
                  <a:srgbClr val="000000"/>
                </a:solidFill>
                <a:latin typeface="Arial"/>
              </a:rPr>
              <a:t>”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28240" y="122400"/>
            <a:ext cx="792468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Комуникација – </a:t>
            </a:r>
            <a:r>
              <a:rPr b="1" lang="sr-RS" sz="4400" spc="-1" strike="noStrike">
                <a:solidFill>
                  <a:srgbClr val="0000ff"/>
                </a:solidFill>
                <a:latin typeface="Arial"/>
              </a:rPr>
              <a:t>саопштавање лоших вести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PIK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протоко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0000"/>
                </a:solidFill>
                <a:latin typeface="Arial"/>
              </a:rPr>
              <a:t>Припрема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tings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) пре састанка са пацијентом. Присуство члана породице је добра пракс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0000"/>
                </a:solidFill>
                <a:latin typeface="Arial"/>
              </a:rPr>
              <a:t>Перцепција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ception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) – утврдити шта пацијент тренутно зна о својој боле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0000"/>
                </a:solidFill>
                <a:latin typeface="Arial"/>
              </a:rPr>
              <a:t>Добијање сигнала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itation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) – Треба добити јасан став да ли пацијент хоће да зна своје стање. Уколико не, опција су рођац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0000"/>
                </a:solidFill>
                <a:latin typeface="Arial"/>
              </a:rPr>
              <a:t>Сазнање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nowledge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) -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Дајте сигнал упозорењ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0000"/>
                </a:solidFill>
                <a:latin typeface="Arial"/>
              </a:rPr>
              <a:t>Емпатија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pathy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) – прихватите реакцију и покажите емпатију, али без ублажавања реал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0000"/>
                </a:solidFill>
                <a:latin typeface="Arial"/>
              </a:rPr>
              <a:t>Сумирање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mary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) – Резиме и стратегија за даљ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22T19:12:42Z</dcterms:created>
  <dc:creator>User</dc:creator>
  <dc:description/>
  <dc:language>en-US</dc:language>
  <cp:lastModifiedBy>Marko Slavkovic</cp:lastModifiedBy>
  <dcterms:modified xsi:type="dcterms:W3CDTF">2019-03-09T04:08:00Z</dcterms:modified>
  <cp:revision>176</cp:revision>
  <dc:subject/>
  <dc:title>Soft and Hard Skills Development: A Current Situation in Serbian Companies</dc:title>
</cp:coreProperties>
</file>